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AD83-E1C6-492C-B059-64748C014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4768-403D-403F-BFA2-80EF7E5D4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BF19-6C1F-4483-9838-FC9F0DBCF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AC2B-52AE-4B8A-8BBA-1C73522D3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3604-5A9C-4841-A944-AB81F2B95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2866-19F9-4B91-94B8-16BEDDD65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692F-DB81-41D2-AAEA-75196115B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D21A-AE67-460E-8B9D-29FE37BAB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B7DF-0B3C-43E6-9BD6-D3CAB4EA4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4F40-C474-4F38-91F0-F577FBB8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62B8-A99C-4145-A0E1-4D9EF7E4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E38F-3B27-41B9-AAE1-0CCE13B8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C42FB-CD26-4029-8BD3-AB61741D9961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hyperlink" Target="mailto:ovca.eventscoordinator@hotmail.ca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5145120" y="3924360"/>
          <a:ext cx="1536840" cy="168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5120" y="3924360"/>
                    <a:ext cx="1536840" cy="16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Object 3"/>
          <p:cNvGraphicFramePr/>
          <p:nvPr/>
        </p:nvGraphicFramePr>
        <p:xfrm>
          <a:off x="152280" y="304920"/>
          <a:ext cx="990720" cy="92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304920"/>
                    <a:ext cx="990720" cy="92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Text Box 6"/>
          <p:cNvSpPr/>
          <p:nvPr/>
        </p:nvSpPr>
        <p:spPr>
          <a:xfrm>
            <a:off x="996840" y="2411280"/>
            <a:ext cx="496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buClr>
                <a:srgbClr val="005e00"/>
              </a:buClr>
              <a:buFont typeface="Tahoma Small Cap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e00"/>
                </a:solidFill>
                <a:latin typeface="Tahoma Small Cap"/>
              </a:rPr>
              <a:t>Shotgun start @ 1 p.m. (Scramble Forma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5e00"/>
              </a:buClr>
              <a:buFont typeface="Tahoma Small Cap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e00"/>
                </a:solidFill>
                <a:latin typeface="Tahoma Small Cap"/>
              </a:rPr>
              <a:t>Cocktails after the r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5e00"/>
              </a:buClr>
              <a:buFont typeface="Tahoma Small Cap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e00"/>
                </a:solidFill>
                <a:latin typeface="Tahoma Small Cap"/>
              </a:rPr>
              <a:t>Roast Beef Buffet Dinner @ 6:30 p.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1143000" y="304920"/>
            <a:ext cx="5486400" cy="12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OVCA 2012 GOLF TOURNA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9900"/>
                </a:solidFill>
                <a:latin typeface="Comic Sans MS"/>
              </a:rPr>
              <a:t>Friday, June 1st, 2012 at Metcalfe Golf and Country Cl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In support of OVCA youth and development progr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609480" y="4243320"/>
            <a:ext cx="426744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etcalfe Golf and Country Club is located 26 km south east of Ottawa on 8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th</a:t>
            </a:r>
            <a:r>
              <a:rPr b="0" lang="en-GB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3"/>
          <p:cNvSpPr/>
          <p:nvPr/>
        </p:nvSpPr>
        <p:spPr>
          <a:xfrm>
            <a:off x="1098720" y="1603440"/>
            <a:ext cx="469548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 Small Cap"/>
              </a:rPr>
              <a:t>$90 per person, including golf, cart &amp; din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 Small Cap"/>
              </a:rPr>
              <a:t>$30 per guest - dinner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4"/>
          <p:cNvSpPr/>
          <p:nvPr/>
        </p:nvSpPr>
        <p:spPr>
          <a:xfrm>
            <a:off x="31680" y="641988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5"/>
          <p:cNvSpPr/>
          <p:nvPr/>
        </p:nvSpPr>
        <p:spPr>
          <a:xfrm>
            <a:off x="423000" y="6496200"/>
            <a:ext cx="611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 Small Cap"/>
              </a:rPr>
              <a:t>OVCA 2012 GOLF TOURNAMENT - ENTRY FORM (Team or Individu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60280" y="6877080"/>
          <a:ext cx="6400800" cy="1427040"/>
        </p:xfrm>
        <a:graphic>
          <a:graphicData uri="http://schemas.openxmlformats.org/drawingml/2006/table">
            <a:tbl>
              <a:tblPr/>
              <a:tblGrid>
                <a:gridCol w="1295640"/>
                <a:gridCol w="2438280"/>
                <a:gridCol w="182520"/>
                <a:gridCol w="808200"/>
                <a:gridCol w="1676160"/>
              </a:tblGrid>
              <a:tr h="2743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am Memb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tact Pers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ome P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mail Addr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ork P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 gridSpan="5"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 CHEQUE (payable to ‘OVCA’) IN THE AMOUNT OF $_________ IS ENCLOS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2" name="Text Box 158"/>
          <p:cNvSpPr/>
          <p:nvPr/>
        </p:nvSpPr>
        <p:spPr>
          <a:xfrm>
            <a:off x="609480" y="8534520"/>
            <a:ext cx="5715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 Small Cap"/>
              </a:rPr>
              <a:t>Mail entry and payment to: Events Coordinator , 27 Vermeer Way,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 Small Cap"/>
              </a:rPr>
              <a:t>Kanata, ON, K2K 2L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59"/>
          <p:cNvSpPr/>
          <p:nvPr/>
        </p:nvSpPr>
        <p:spPr>
          <a:xfrm>
            <a:off x="573120" y="3368520"/>
            <a:ext cx="577512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 Small Cap"/>
              </a:rPr>
              <a:t>Returning Teams guaranteed a spot until April 30, 20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 Small Cap"/>
              </a:rPr>
              <a:t>Closing date for entries is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ahoma Small Cap"/>
              </a:rPr>
              <a:t>May 15, 20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60"/>
          <p:cNvSpPr/>
          <p:nvPr/>
        </p:nvSpPr>
        <p:spPr>
          <a:xfrm>
            <a:off x="231840" y="4915080"/>
            <a:ext cx="5562360" cy="15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 Small Cap"/>
              </a:rPr>
              <a:t>ENTER INDIVIDUALLY OR AS A T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 Small Cap"/>
              </a:rPr>
              <a:t>For further information, email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ahoma Small Cap"/>
                <a:hlinkClick r:id="rId5"/>
              </a:rPr>
              <a:t>ovca.eventscoordinator@hotmail.ca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ahoma Small Cap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 Small Cap"/>
              </a:rPr>
              <a:t>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 Small Cap"/>
              </a:rPr>
              <a:t>call 613.435.18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8T18:29:35Z</dcterms:created>
  <dc:creator>lily</dc:creator>
  <dc:description/>
  <dc:language>en-US</dc:language>
  <cp:lastModifiedBy>mdlaptop</cp:lastModifiedBy>
  <dcterms:modified xsi:type="dcterms:W3CDTF">2012-03-19T15:00:42Z</dcterms:modified>
  <cp:revision>11</cp:revision>
  <dc:subject/>
  <dc:title>PowerPoint Presentation</dc:title>
</cp:coreProperties>
</file>